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6F6F01-1EFA-42B8-AFE8-B4572D2BF22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DB18B2-A203-4C50-B605-66AA10794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257ADF-A109-4C65-ABCB-2B881B0DE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C51A06-DD23-48CC-9320-7133AA8F51B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E3761C-4AAB-4E70-B84B-7F23F53B9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86A085-44E2-41C0-A349-7A9448E87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3D2F2A-CFE5-425A-944D-049B8D9FC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6551B6-1BC2-471D-9D17-F15BCE8AD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523ACC-A31F-44AE-B6E7-5AA0CD569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194A04-A06C-4183-A0CB-CD50F00ED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D51BDD-5E56-456E-AF1A-3007C315C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A98604-40A1-4DFB-88CB-E9036E780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976E7-9966-4D65-9EA3-092732B48E33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29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4000" y="2276640"/>
            <a:ext cx="7416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第五章  常见疾病和损伤</a:t>
            </a:r>
            <a:r>
              <a:rPr b="1" lang="zh-CN" sz="4000" spc="-1" strike="noStrike">
                <a:solidFill>
                  <a:srgbClr val="1d1496"/>
                </a:solidFill>
                <a:latin typeface="宋体"/>
                <a:ea typeface="宋体"/>
              </a:rPr>
              <a:t>的康复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宋体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八节  骨折后的康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6588000" y="544500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胡文清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二）适应证和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各种类型的骨折经妥善复位、固定处理后均应及时开始康复治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骨折延迟愈合并针对原因进行必要的骨科处理的同时，也应加强康复治疗，给骨骼以一定的应力刺激，改善肢体血液循环，促进愈合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若有局部炎症、病理性骨折时，禁忌功能锻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关节内血肿、伤口局部有异物，或骨折与脱位尚未妥善处理时应暂缓功能锻炼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四、康复治疗措施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三）康复治疗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促进血肿和渗出物的吸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促进骨痂形成和重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预防或减轻软组织的挛缩和粘连，促进关节活动度的恢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预防或减轻肌肉萎缩，促进肌力的恢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防止发生制动综合征，尽早恢复日常生活活动能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恢复身体功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四、康复治疗措施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四）康复治疗措施</a:t>
            </a:r>
            <a:br>
              <a:rPr sz="2800"/>
            </a:b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早期康复 在骨折复位并进行固定或牵引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天后，局部损伤反应减轻，即可开始康复治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运动疗法：对没被固定的肢体邻近的肌肉和关节的功能训练。手术固定牢固的关节内骨折、干骨折，在术后视情况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周后即可开始关节活动度训练，每次不超高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0mi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为宜。术后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∼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天，在未被固定关节的训练中，尤其要加强易发生粘连关节的活动，如肩关节活动，掌指关节屈伸和踝关节曲伸等活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四、康复治疗措施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整体功能训练：上肢骨折尽早起床站立、行走。即使是下肢骨折者也应早期拄双拐站立、行走。必须卧床的病人特别是年老体弱者，要做卧位深呼吸和咳嗽练习、腹背肌练习、未受伤肢体的正常运动及肌力练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物理疗法：可用激光疗法、脉冲短波治疗以消肿，止痛、促进渗液及代谢产物的吸收和组织再生。磁疗、超声治疗、直流电离子导入法治疗可促进骨折愈合，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四、康复治疗措施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324000" y="1052640"/>
            <a:ext cx="86104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恢复期康复  一般从伤后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个月开始。此期骨折端已稳定，能耐受一定的应力。应加大关节活动范围训练，加强肌力训练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运动疗法：①主动运动：利用肢体重力作用及肌力的协同作用，作大幅度关节活动、肌肉力量训练。②被动运动：康复医师以不引起病人明显的疼痛和肌肉痉挛的平缓动作进行。对不能完成主动运动的病人，应进行关节各轴向运动。③助力运动：病人用自己的健肢或器械帮助患肢进行运动。④主动牵伸：病人在固定的器械上利用自身重力作关节牵伸活动。⑤关节松动术：是解决关节活动受限有效手法操作，可配合热疗手法牵引。⑥恢复肌力训练：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0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级的肌力，可采用水疗、按摩、低频脉冲电刺激、被动运动等；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级肌力，以主动运动为主，配合助力运动，但助力宜小；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级肌力，应进行抗阻运动，可采用渐进抗阻练习或等速练习，以促进肌力最大限度恢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四、康复治疗措施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4"/>
          <p:cNvSpPr/>
          <p:nvPr/>
        </p:nvSpPr>
        <p:spPr>
          <a:xfrm>
            <a:off x="468360" y="2781360"/>
            <a:ext cx="82072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）物理疗法：包括应用温热疗法、蜡疗、音频等治疗方法可预防治疗粘连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）平衡训练：下肢骨折后进行站立平衡训练、步态训练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四、康复治疗措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pic>
        <p:nvPicPr>
          <p:cNvPr id="140" name="Picture 3" descr="DSCN0186"/>
          <p:cNvPicPr/>
          <p:nvPr/>
        </p:nvPicPr>
        <p:blipFill>
          <a:blip r:embed="rId1"/>
          <a:stretch/>
        </p:blipFill>
        <p:spPr>
          <a:xfrm>
            <a:off x="1722600" y="1752480"/>
            <a:ext cx="568944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pic>
        <p:nvPicPr>
          <p:cNvPr id="142" name="Picture 3" descr="DSCN0240"/>
          <p:cNvPicPr/>
          <p:nvPr/>
        </p:nvPicPr>
        <p:blipFill>
          <a:blip r:embed="rId1"/>
          <a:stretch/>
        </p:blipFill>
        <p:spPr>
          <a:xfrm>
            <a:off x="0" y="2362320"/>
            <a:ext cx="4495680" cy="341784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4" descr="DSCN0238"/>
          <p:cNvPicPr/>
          <p:nvPr/>
        </p:nvPicPr>
        <p:blipFill>
          <a:blip r:embed="rId2"/>
          <a:stretch/>
        </p:blipFill>
        <p:spPr>
          <a:xfrm>
            <a:off x="4495680" y="2362320"/>
            <a:ext cx="4648320" cy="330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熟知病情，定期进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ROM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和肌力等评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掌握骨折的愈合进程，了解骨痂的生长情况，以利于康复治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康复治疗要循序渐进，运动负荷应逐步增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密切观察骨折局部的情况，出现异常情况及时处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禁忌暴力性功能训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关节活动范围练习应和肌力练习同步进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7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做好宣教工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四、康复治疗措施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26560" y="549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一）定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骨或骨小梁的完整性或连续性发生中断称为骨折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fractur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二）病因  造成骨折的原因是多方面的，其中以外伤性骨折多见，根据骨折的原因，可分为外伤性骨折和病理性骨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三）骨折愈合分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骨折愈合可分六期：撞击期、诱导期、炎症期、软骨痂期、硬骨痂期和重建期。骨折的愈合需要良好的固定、充足的血供和有利的力学环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8ac8de"/>
              </a:solidFill>
              <a:latin typeface="Verdana"/>
              <a:ea typeface="宋体"/>
            </a:endParaRPr>
          </a:p>
        </p:txBody>
      </p:sp>
      <p:pic>
        <p:nvPicPr>
          <p:cNvPr id="111" name="Picture 4" descr="IMG_064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三）临床表现</a:t>
            </a:r>
            <a:br>
              <a:rPr sz="2400"/>
            </a:b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全身症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休克：常见于骨盆骨折、股骨骨折、多发骨折以及严重的开放性骨折或并发脏器损伤时。出血性休克、创伤性休克多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体温改变：骨折后体温一般正常，出血量较大的骨折血肿吸收时可出现低热，开放性骨折出现高热时，应注意合并感染的可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局部表现：局部疼痛、肿胀、皮肤淤斑、压痛和功能障碍。骨折的专有体征：畸形、反常活动、骨擦音或骨擦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. X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线表现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X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线检查可进一步了解骨折部位、移位类型、治疗和愈合情况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256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四）临床治疗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治疗骨折有三大原则：复位、固定和功能锻炼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6" name="Picture 4" descr="IMG_0669"/>
          <p:cNvPicPr/>
          <p:nvPr/>
        </p:nvPicPr>
        <p:blipFill>
          <a:blip r:embed="rId1"/>
          <a:stretch/>
        </p:blipFill>
        <p:spPr>
          <a:xfrm>
            <a:off x="4332240" y="3573360"/>
            <a:ext cx="3525840" cy="26431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5" descr="IMG_0642"/>
          <p:cNvPicPr/>
          <p:nvPr/>
        </p:nvPicPr>
        <p:blipFill>
          <a:blip r:embed="rId2"/>
          <a:stretch/>
        </p:blipFill>
        <p:spPr>
          <a:xfrm>
            <a:off x="1044720" y="2962440"/>
            <a:ext cx="3284280" cy="246348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2"/>
          <p:cNvSpPr/>
          <p:nvPr/>
        </p:nvSpPr>
        <p:spPr>
          <a:xfrm>
            <a:off x="990720" y="457200"/>
            <a:ext cx="807696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二、主要功能障碍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关节稳定性减弱  制动使关节韧带强度降低，部分肌肉萎缩、肌力下降，吸收及缓冲应力的能力减弱稳定性下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关节活动障碍  主要是制动导致关节液分泌减少、关节周围的疏松解体组织转变为致密结体组织，形成关节内外粘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关节活动受限。 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骨强度降低   制动使骨丧失了应力负荷的刺激，导致骨代谢障碍，骨无机盐流失，骨质疏松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肢体肿胀 骨折后局部出血、渗出增加等，引起肿胀导致相应的功能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整体功能下降 骨折后因如下肢或脊柱骨折、年老体弱、长时间卧床休息，对整体功能都会产生不利影响，容易产生肺炎、血栓等多种并发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6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日常生活活动能力下降 制动、卧床休息、肌力下降等可使骨折患者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AD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受到明显影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7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心理障碍 康复治疗后功能障碍仍较明显的，患者可出现各种心理问题，如焦虑、忧郁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二、主要功能障碍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三、康复评定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052280"/>
            <a:ext cx="8610480" cy="51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疼痛、局部肿胀、骨折类型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肌力及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ROM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 AD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能力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步态评定 对于下肢骨折的患者，可对其进行步态分析，判断下肢功能障碍情况。评定方法详见第三章第三节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骨折临床愈合标准：①局部无压痛及纵轴叩击痛，②局部无反常活动，③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X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线显示骨折线模糊，有连续骨痂通过骨折线，④解除外固定后伤肢能满足以下要求：上肢向前平举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kg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重量达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分钟，下肢不扶拐在平地连续步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分钟，不少于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步，⑤连续观察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周骨折处不变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四、康复治疗措施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（一）骨折后功能恢复的理论基础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骨折的愈合可分为四个阶段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血肿机化期 由于骨折造成骨膜下、髓腔及周围软组织出血形成血肿，伤后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6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8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小时，血肿内即开始有肉芽组织长入，血肿被替代。并进一步演化为纤维结缔组织，使骨折两端连在一起，称为纤维性连接。此过程需为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周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原始骨痂形成期 骨折后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24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小时，成骨细胞开始增生，通过膜内化骨和软骨内化骨的过程，分别形成内骨痂、外骨痂和环状骨痂。此期约需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6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周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成熟骨板期（临床愈合期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)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新生骨小梁逐渐增加，排列趋向规则，新骨代替死骨，原始骨痂逐渐被改造成板状骨。此期于骨折后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8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12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周完成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骨痂塑形期（骨性愈合期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)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骨组织结构按力学原则重新改造塑形。应力轴线上的骨痂不断加强，应力轴线以外的骨痂逐渐被吸收清除，髓腔重新沟通，恢复到骨折前的正常结构。最终骨折痕迹完全消失，约需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年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cp:keywords/>
  <dc:language>en-US</dc:language>
  <cp:lastModifiedBy>药蓉</cp:lastModifiedBy>
  <cp:lastPrinted>1899-12-30T00:00:00Z</cp:lastPrinted>
  <dcterms:modified xsi:type="dcterms:W3CDTF">2015-05-25T08:56:30Z</dcterms:modified>
  <cp:revision>15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29</vt:lpwstr>
  </property>
</Properties>
</file>